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3EA-55D2-4990-B8FA-268B22FA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AEE-313F-406A-A1BD-409F98F1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789-4D9E-4098-9245-FDD452BF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F7CB-7845-4818-AA46-4B44F052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0D91-A97B-4C31-AD88-99D02CBE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2ED3-E5F7-4583-B9AA-4FB06C8A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5417-0FA0-4A76-BE52-19BFCB0B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62F5-6558-430A-BE04-AE23B4CE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89F0-DD8F-4695-8D53-EB34827F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F295-F031-4392-B46E-9060E4A7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BA81-76F7-4F45-B9CD-458271F0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DAC-72A0-4C0E-952C-70C26583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97BB-4E0C-4705-8F9A-CBA265BA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A254-77B4-4D01-B5F5-DBCC756E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C63F-8C48-42B7-884B-FEE36CBB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7CC3-55D7-43C3-8E3E-8D2611E0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0509-FB5B-44C3-96E6-0112A0C2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9ED3-AA78-4DC0-BF79-D271D55D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EDE-BAA9-4113-A1CE-9AF7E554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B0B-54F3-4C7D-8A60-E3A74764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EFD-79C4-4AAF-BB3A-CD7DE0FE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5E9-943A-4D08-A006-B01901C3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B30-C036-4626-B408-60926B29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DF5-CB67-4416-9B5F-6D388AF5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7700-53F4-4E01-88D6-F004AD08AC5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2167-DBAB-497F-A3EB-9B7E4655389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ulgakov.ru/" TargetMode="External"/><Relationship Id="rId2" Type="http://schemas.openxmlformats.org/officeDocument/2006/relationships/hyperlink" Target="http://www.bulgakov.ru/galleries/msk" TargetMode="External"/><Relationship Id="rId3" Type="http://schemas.openxmlformats.org/officeDocument/2006/relationships/hyperlink" Target="http://world.lib.ru/s/smirnow_t_l/bulgakov.shtml" TargetMode="External"/><Relationship Id="rId4" Type="http://schemas.openxmlformats.org/officeDocument/2006/relationships/hyperlink" Target="http://obozrevatel.com/news/2006/1/27/83471.h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eaeaea"/>
                </a:solidFill>
                <a:uFillTx/>
                <a:latin typeface="Arial Rounded MT Bold"/>
              </a:rPr>
              <a:t>Мистика в творчестве Михаила Булгаков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4723920"/>
            <a:ext cx="4144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удентка филологического факультета, 342 гр.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пова Татья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2010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71440" y="1981080"/>
            <a:ext cx="309564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Участники проект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ащиеся 11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мет: лит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грамма: Кутуз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00600" y="3962520"/>
            <a:ext cx="38862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Основной вопрос нашего проекта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сё ли в мире опознано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3205440" cy="38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Вопросы, ответы на которые мы будем искать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мисти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аких произведениях встречаем мистическо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ми способами писатель Михаил Булгаков вводит мистику в свои произведе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мые страшные мотивы в его творчеств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Представление результатов исследования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презентации учащихся (по одному из произведени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ублик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4419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родолжительность проект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ект рассчитан на 4 нед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го 8 ча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Этапы проведения проект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ение в те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мысление и оформление 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иск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мостоятельная работа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щита проектов (презентаци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Информационные ресурс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bulgakov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www.bulgakov.ru/galleries/ms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http://world.lib.ru/s/smirnow_t_l/bulgakov.s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http://obozrevatel.com/news/2006/1/27/83471.ht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07T05:55:0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